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95B-098C-4086-8DB8-B96B0979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FA9-18D6-4790-899A-08D67D71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46D-6E0E-493F-B514-4D1A459A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64F-2940-4E24-9E39-17F79382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BC7B-543F-4C51-AD75-1F455802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2031-9E61-4682-85D8-575B24EA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BB40-8AAC-41A1-A545-7B134E25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454D-CD18-45AC-A071-B17622DE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2B7F-0ECA-427F-9B2F-20FA92CC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7445-7ECE-40B9-BE0F-EC727EB7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2051-E662-4400-BE71-620B6A78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4F7-6FC2-4A80-BA77-3892348A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D7BC-E375-4255-BCA7-74BE1634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B291-5CEB-4291-8E4E-9C8F3777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8191-FB85-4875-8C31-2A21DC9E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95CB-6540-4201-B47F-53AE6903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1609-EE7B-4674-A7CD-E1933889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07D50-930A-4AA3-838D-1FC63C99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086D2-26D6-493E-9D36-D4FFBE32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62B82-41E3-4E6C-B5F0-FA51945D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BABD1-DE48-427E-93D7-3C2B2DB9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7B51-B1B1-4436-BD9C-2A8A505E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246-29F8-49BD-BF99-6C45DDC7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D6E29-8557-4EF4-BDE5-C57D22DB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53089-9186-4288-9C66-79F4829A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F10A-B230-48C5-AAD2-97FEBB4A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D5B99-28FD-4457-826D-E2294CEA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509FE-E8E2-4DF0-9660-6BAB6983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EFDC-3CB7-46A4-8588-3E058F08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2D5E-C93D-4AC0-A9B7-CD9D3D37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9B3-10B8-410F-A70E-2FC32485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BA1-A2F6-470A-A266-6AA43453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4C8-B4BF-4144-9A97-F04E9ECA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241-AC50-4682-AA2C-D0B658BA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359-6CDF-4563-AD37-488F3922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132-C226-442F-A520-C882147B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84C4-BC38-4388-BD55-7E8EFE43B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E2F9-8AEF-4080-B8C4-983453F9C339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20E5-AB82-46CA-B9B9-749483D52C2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office.org/" TargetMode="External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ellstyled.com/" TargetMode="External"/><Relationship Id="rId3" Type="http://schemas.openxmlformats.org/officeDocument/2006/relationships/hyperlink" Target="http://wellstyled.com/" TargetMode="External"/><Relationship Id="rId4" Type="http://schemas.openxmlformats.org/officeDocument/2006/relationships/hyperlink" Target="http://wellstyled.com/" TargetMode="External"/><Relationship Id="rId5" Type="http://schemas.openxmlformats.org/officeDocument/2006/relationships/hyperlink" Target="http://wellstyled.com/" TargetMode="External"/><Relationship Id="rId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1557000"/>
            <a:ext cx="777708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zentace a PowerPoi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777960"/>
            <a:ext cx="6985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ma381 – 1. cvič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. Polčáková (polcakm@vse.cz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0360E-A6F3-45E8-BF9F-E75E171710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soba prezentujícího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nervozita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výška, síla a barva hlasu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monotónnost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odbornost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imag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spisovnost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slovní vsuvky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mimoslovní vsuvky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soustředění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gestikulace/mimika/pohyb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. Polčáková (polcakm@vse.cz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74AB-E7EB-4A19-BB9C-3E73F9E831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kolí prezenta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- posluchači + místo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omu je prezentace urče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likost publik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Znalosti publik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mogenita publik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ísto prezent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chnické vybave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dmínky konkrétního mís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. Polčáková (polcakm@vse.cz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B592-A74F-4FD9-8B91-50FC4F2F32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Polčáková (polcakm@vse.cz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529-4B56-4799-9983-2C74212FA3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bsah prezentac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orie“ prezentování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werpoi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. Polčáková (polcakm@vse.cz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CC9D-A9A8-4144-AD3F-EEB21DAF05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rmy prezentac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Ústní prezentac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saná prezent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ektronická prezent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Kombinovaná prezent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. Polčáková (polcakm@vse.cz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1B34-EEBC-4B15-AC3A-276751CFBC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owerPoint – o co jde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Aplikace z balíku Microsoft Office pro tvorbu prezentací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současný standar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Existují alternativy – aplikace Impress z balíku OpenOffice (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www.openoffice.org</a:t>
            </a: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open-source software, legálně a zdarma ke stažení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. Polčáková (polcakm@vse.cz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8999-9F85-403B-AD99-D75E85EF26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spekty prezentac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lastní prezentac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sah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ruktur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rm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soba prezentujícíh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kolí prezentac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luchači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íst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. Polčáková (polcakm@vse.cz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C688-349B-453C-8F90-804C190936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Vlastní prezentace - obsah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luvený obsah x obsah prezent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íl prezent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lší podklad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uze hesla/ne věty (výjimky existují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avopis a jeho kontrol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tipy v prezentaci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. Polčáková (polcakm@vse.cz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2C93-3E3A-477D-9F4D-54F9C97B65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Vlastní prezentace - struktur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aktika a časová sousledno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 doj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Zaměřit pozornost publik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ředstavit sebe + další jména (autoři, prezentující, společnost,…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ázev práce/problém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snov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Závěr, ukonče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kus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děkování, rozlouče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. Polčáková (polcakm@vse.cz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37F4-BE3B-4FBC-A1A2-0D37233810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Vlastní prezenta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– grafická forma (1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Trebuchet MS"/>
              </a:rPr>
              <a:t>MÉNĚ JE NĚKDY VÍCE!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Trebuchet MS"/>
              </a:rPr>
              <a:t>jednotnost barev a jejich sladění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wellstyled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rebuchet MS"/>
                <a:hlinkClick r:id="rId5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http://colorscheme.co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kontrast barev objektů versus barvy pozadí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pozor na textury v pozadí – často velmi ruší obsah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jednotnost definování písma pro nadpisy, textová pole, zápatí..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písma – patkové, bez patkové, volba fontů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jednotná struktura snímků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použití předpřipraveného rozvržení snímku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. Polčáková (polcakm@vse.cz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B3AB-D014-400E-9C58-A0992D5E46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Vlastní prezenta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– grafická forma (2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kromnost při výběru animací a efektů, včetně zvuku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čím méně tím lép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ostatečně velká písmena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čitelná prezentace i z poslední řad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omatické úpravy velikost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optimální vyplnění prostoru snímku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. Polčáková (polcakm@vse.cz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4F38-D259-477A-93E4-6AFD0BE00BB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1:54:44Z</dcterms:created>
  <dc:creator>Martina</dc:creator>
  <dc:description/>
  <dc:language>en-US</dc:language>
  <cp:lastModifiedBy>Martina Polčáková</cp:lastModifiedBy>
  <dcterms:modified xsi:type="dcterms:W3CDTF">2009-02-16T12:41:42Z</dcterms:modified>
  <cp:revision>8</cp:revision>
  <dc:subject/>
  <dc:title>44F101 – 4. cvičení Prezentace a PowerPoint</dc:title>
</cp:coreProperties>
</file>