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847D-4046-4CDE-87C5-4B0C8161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9F8C-DE4A-4BDA-A3B5-6F3C8256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57E2-7775-4E06-9042-E1FBD9AA3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0149-3DC6-4D04-8853-DD0765DA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E419-8772-49EB-96D3-E70AE60B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2C82-8058-4757-82C7-09C547B9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7578-FF50-4A90-8FC8-9EB82032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D18E-D18D-44D9-860A-FBD920C3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27DE-4ACF-4662-A148-7DBC4488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1855-E5D6-4BEF-8092-0424BD3F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B35B-CC3B-4187-A882-6209AA9B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7A18-F552-4AC7-8539-9170AD67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B0FD-83F4-4756-A5B1-30800CC317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sa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fsaf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Zástupný symbol pro obsah 6" descr="plan.jpg"/>
          <p:cNvPicPr/>
          <p:nvPr/>
        </p:nvPicPr>
        <p:blipFill>
          <a:blip r:embed="rId1"/>
          <a:stretch/>
        </p:blipFill>
        <p:spPr>
          <a:xfrm>
            <a:off x="4648320" y="2251080"/>
            <a:ext cx="4038480" cy="3224160"/>
          </a:xfrm>
          <a:prstGeom prst="rect">
            <a:avLst/>
          </a:prstGeom>
          <a:ln w="0">
            <a:noFill/>
          </a:ln>
        </p:spPr>
      </p:pic>
      <p:pic>
        <p:nvPicPr>
          <p:cNvPr id="44" name="Zástupný symbol pro obsah 7" descr="SP_A0238.jpg"/>
          <p:cNvPicPr/>
          <p:nvPr/>
        </p:nvPicPr>
        <p:blipFill>
          <a:blip r:embed="rId2"/>
          <a:stretch/>
        </p:blipFill>
        <p:spPr>
          <a:xfrm>
            <a:off x="4643280" y="2249640"/>
            <a:ext cx="403884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6:27:16Z</dcterms:created>
  <dc:creator>Martina</dc:creator>
  <dc:description/>
  <dc:language>en-US</dc:language>
  <cp:lastModifiedBy>Martina</cp:lastModifiedBy>
  <dcterms:modified xsi:type="dcterms:W3CDTF">2009-02-22T16:28:22Z</dcterms:modified>
  <cp:revision>1</cp:revision>
  <dc:subject/>
  <dc:title>Snímek 1</dc:title>
</cp:coreProperties>
</file>