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ission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28F-151F-4B6B-9499-43924F4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3B5-937F-4C86-9E19-9CFE6E9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939-331D-474C-BE9C-F186223B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1F4-F01E-45D0-B0E4-190209DB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106-04CE-4E4C-A7CD-E5D415C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C08-FF99-4561-8FDC-29B8CA4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D6A-3F98-4A9A-B87D-0D0A9685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E7D-41C9-4D9C-887F-CBF33E8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31C-AD86-46D9-A926-DADB12CE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E98-A2D9-45B0-98C7-294B9E98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7CD-107D-40DC-9B23-D7892C6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58A-4B13-42D3-9946-D3AD218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58F8-7CF3-4163-974C-7415E67088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ission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32080" y="388800"/>
            <a:ext cx="42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99"/>
                </a:solidFill>
                <a:latin typeface="Times New Roman"/>
              </a:rPr>
              <a:t>áš příkaz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Jděte do H&amp;M a kupte kalhoty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3"/>
          <p:cNvGrpSpPr/>
          <p:nvPr/>
        </p:nvGrpSpPr>
        <p:grpSpPr>
          <a:xfrm>
            <a:off x="571680" y="1857240"/>
            <a:ext cx="8152560" cy="4343400"/>
            <a:chOff x="571680" y="1857240"/>
            <a:chExt cx="8152560" cy="4343400"/>
          </a:xfrm>
        </p:grpSpPr>
        <p:sp>
          <p:nvSpPr>
            <p:cNvPr id="43" name="Freeform 39"/>
            <p:cNvSpPr/>
            <p:nvPr/>
          </p:nvSpPr>
          <p:spPr>
            <a:xfrm>
              <a:off x="1866960" y="2238120"/>
              <a:ext cx="5714640" cy="3124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571680" y="1857240"/>
              <a:ext cx="14475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201924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2400120" y="22381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278136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316224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99"/>
                  </a:solidFill>
                  <a:latin typeface="Arial MT Black"/>
                </a:rPr>
                <a:t>H&amp;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3543120" y="22381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01924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2400120" y="36097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278136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16224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543120" y="36097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 rot="10800000">
              <a:off x="7276680" y="2085480"/>
              <a:ext cx="14475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 rot="10800000">
              <a:off x="689580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 rot="10800000">
              <a:off x="6514920" y="36097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 rot="10800000">
              <a:off x="613368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 rot="10800000">
              <a:off x="5752800" y="36097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10800000">
              <a:off x="5371920" y="36097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 rot="10800000">
              <a:off x="689580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 rot="10800000">
              <a:off x="6514920" y="22381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 rot="10800000">
              <a:off x="613368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 rot="10800000">
              <a:off x="5752800" y="2238120"/>
              <a:ext cx="380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 rot="10800000">
              <a:off x="5371920" y="223812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 rot="5400000">
              <a:off x="5447520" y="4066920"/>
              <a:ext cx="380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31"/>
            <p:cNvSpPr/>
            <p:nvPr/>
          </p:nvSpPr>
          <p:spPr>
            <a:xfrm rot="5400000">
              <a:off x="5447520" y="4447800"/>
              <a:ext cx="380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2"/>
            <p:cNvSpPr/>
            <p:nvPr/>
          </p:nvSpPr>
          <p:spPr>
            <a:xfrm rot="5400000">
              <a:off x="3466440" y="4066920"/>
              <a:ext cx="380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"/>
            <p:cNvSpPr/>
            <p:nvPr/>
          </p:nvSpPr>
          <p:spPr>
            <a:xfrm rot="5400000">
              <a:off x="3466440" y="4447800"/>
              <a:ext cx="380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4"/>
            <p:cNvSpPr/>
            <p:nvPr/>
          </p:nvSpPr>
          <p:spPr>
            <a:xfrm>
              <a:off x="2933640" y="4905000"/>
              <a:ext cx="342864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45"/>
          <p:cNvSpPr/>
          <p:nvPr/>
        </p:nvSpPr>
        <p:spPr>
          <a:xfrm>
            <a:off x="4074120" y="12636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4566240" y="126360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47"/>
          <p:cNvSpPr/>
          <p:nvPr/>
        </p:nvSpPr>
        <p:spPr>
          <a:xfrm>
            <a:off x="3505320" y="1600200"/>
            <a:ext cx="838080" cy="14479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49"/>
          <p:cNvSpPr/>
          <p:nvPr/>
        </p:nvSpPr>
        <p:spPr>
          <a:xfrm>
            <a:off x="3124080" y="1600200"/>
            <a:ext cx="5486400" cy="44956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50"/>
          <p:cNvSpPr/>
          <p:nvPr/>
        </p:nvSpPr>
        <p:spPr>
          <a:xfrm>
            <a:off x="990720" y="2362320"/>
            <a:ext cx="3276360" cy="198108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1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54"/>
          <p:cNvGrpSpPr/>
          <p:nvPr/>
        </p:nvGrpSpPr>
        <p:grpSpPr>
          <a:xfrm>
            <a:off x="1832760" y="4419360"/>
            <a:ext cx="1824840" cy="352800"/>
            <a:chOff x="1832760" y="4419360"/>
            <a:chExt cx="1824840" cy="352800"/>
          </a:xfrm>
        </p:grpSpPr>
        <p:sp>
          <p:nvSpPr>
            <p:cNvPr id="78" name="Text Box 52"/>
            <p:cNvSpPr/>
            <p:nvPr/>
          </p:nvSpPr>
          <p:spPr>
            <a:xfrm>
              <a:off x="1832760" y="4495680"/>
              <a:ext cx="128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66"/>
                  </a:solidFill>
                  <a:latin typeface="Times New Roman"/>
                </a:rPr>
                <a:t>Přestávka na k</a:t>
              </a:r>
              <a:r>
                <a:rPr b="0" lang="cs-CZ" sz="1200" spc="-1" strike="noStrike">
                  <a:solidFill>
                    <a:srgbClr val="ff0066"/>
                  </a:solidFill>
                  <a:latin typeface="Times New Roman"/>
                </a:rPr>
                <a:t>áv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3"/>
            <p:cNvSpPr/>
            <p:nvPr/>
          </p:nvSpPr>
          <p:spPr>
            <a:xfrm flipV="1">
              <a:off x="3200400" y="4419360"/>
              <a:ext cx="45720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55"/>
          <p:cNvSpPr/>
          <p:nvPr/>
        </p:nvSpPr>
        <p:spPr>
          <a:xfrm>
            <a:off x="382320" y="4952880"/>
            <a:ext cx="108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imes New Roman"/>
              </a:rPr>
              <a:t>Výda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imes New Roman"/>
              </a:rPr>
              <a:t>50,00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imes New Roman"/>
              </a:rPr>
              <a:t>Č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imes New Roman"/>
              </a:rPr>
              <a:t>12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7575120" y="4952880"/>
            <a:ext cx="118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imes New Roman"/>
              </a:rPr>
              <a:t>Výda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imes New Roman"/>
              </a:rPr>
              <a:t>650,00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imes New Roman"/>
              </a:rPr>
              <a:t>Č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Times New Roman"/>
              </a:rPr>
              <a:t>199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is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3:10:16Z</dcterms:created>
  <dc:creator>Dr. Marc Röderer</dc:creator>
  <dc:description/>
  <dc:language>en-US</dc:language>
  <cp:lastModifiedBy>Martina</cp:lastModifiedBy>
  <dcterms:modified xsi:type="dcterms:W3CDTF">2009-02-21T20:45:11Z</dcterms:modified>
  <cp:revision>11</cp:revision>
  <dc:subject/>
  <dc:title>PowerPoint-Präsentation</dc:title>
</cp:coreProperties>
</file>