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80FF-62EF-468E-8BF6-2C8ECAD0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DDAC-7A9D-49B7-9EBD-B7F7B59A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C176-D5F9-4FFD-AFBA-C12848F3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9AAB-4994-4106-9328-484A1D34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D4D6-C221-4BF3-A341-9FAD1224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C26F-54EF-4815-8370-D4BBBE42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D96A-D87E-431D-A47C-31442BDB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CE0B-A6B5-4EDE-B041-ED192EF0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6CB0-AA95-42BF-B76D-CBE36B54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7522-1C35-45FB-9F4A-FB5979E7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6800-248C-4E94-B64A-160047D9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C795-F5D2-4446-90ED-0A8FD02A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A9B8-B36F-4206-9EBF-0E2A3A1713E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sa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fsaf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Zástupný symbol pro obsah 6" descr="plan.jpg"/>
          <p:cNvPicPr/>
          <p:nvPr/>
        </p:nvPicPr>
        <p:blipFill>
          <a:blip r:embed="rId1"/>
          <a:stretch/>
        </p:blipFill>
        <p:spPr>
          <a:xfrm>
            <a:off x="4648320" y="2251080"/>
            <a:ext cx="4038480" cy="3224160"/>
          </a:xfrm>
          <a:prstGeom prst="rect">
            <a:avLst/>
          </a:prstGeom>
          <a:ln w="0">
            <a:noFill/>
          </a:ln>
        </p:spPr>
      </p:pic>
      <p:pic>
        <p:nvPicPr>
          <p:cNvPr id="44" name="Zástupný symbol pro obsah 7" descr="SP_A0238.jpg"/>
          <p:cNvPicPr/>
          <p:nvPr/>
        </p:nvPicPr>
        <p:blipFill>
          <a:blip r:embed="rId2"/>
          <a:stretch/>
        </p:blipFill>
        <p:spPr>
          <a:xfrm>
            <a:off x="4643280" y="2249640"/>
            <a:ext cx="403884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6:27:16Z</dcterms:created>
  <dc:creator>Martina</dc:creator>
  <dc:description/>
  <dc:language>en-US</dc:language>
  <cp:lastModifiedBy>Martina</cp:lastModifiedBy>
  <dcterms:modified xsi:type="dcterms:W3CDTF">2009-02-22T16:28:22Z</dcterms:modified>
  <cp:revision>1</cp:revision>
  <dc:subject/>
  <dc:title>Snímek 1</dc:title>
</cp:coreProperties>
</file>